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773-F8A9-4291-8498-C3055C73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1BF-7E25-4916-8CD8-D9A0BCED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56CB9-91AE-4403-A339-DAA39B9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0DEC-1D22-4A47-B25B-1D6D2C83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E56B-2F06-48FF-9AC6-6CE05D38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9ECC-715E-401F-8D98-50BD9A84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E0542-FABA-43D4-83B2-B70402D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65E1-A555-42B8-AAD5-CA77F0E9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872F3-F5CE-4670-9E39-36E3642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B769C-E337-47EE-884F-69631524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89118-F094-48FB-87BD-6ADFF6183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834D-F5CB-4D3E-8AF7-935D90B9B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9D78-9827-42B2-AC6E-E791DD72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D0E88-CA43-4DF9-B982-22C9ACFC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0CF4-F530-4251-BE0B-B3CB6960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7EEC4-2741-4B89-9AF5-DAF9F85B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EF94-42CF-46D9-94A1-7F0081A5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B9506-8C45-4863-AA30-1F5B1030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26F36-33A6-4D13-B9B8-02F3E895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19DC1-7832-41B7-B2C4-BFDBD83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DE183-9ABC-4BE2-96EF-03EF84A3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E2CF7-AC88-4E93-AFBC-DCFCDE9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3CA43-4A20-44DF-85FA-583974FF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90EB-1A3E-4866-BDC6-E1CF27575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89D6-01C6-4C00-AC35-1E61E724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0208B-D9BE-4CA3-8931-98A77969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24F2-425B-49E7-8EAD-FE5EB9A6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BFD07-7A02-4EE3-9FD1-74612EB1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07710-F781-4CC2-BFAE-2776FE7E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7D534-EBDC-4F3B-9641-5D45760C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9C78-920E-4DE3-9BD1-F24389D5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D0E62-37AC-4633-B741-AADB29E9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73975-2503-44AA-B2D6-F218F7A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F5ED-F2E2-4E6B-B76D-F470B60D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DA60A-F2B3-46AA-AD8F-035B4990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522F-C012-46F9-A7DB-F7FC9FDE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2A51-E8E1-42C9-B59A-22BF2A40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32D20-E20E-468E-9D98-CCB6BF7B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1A20-D102-4243-B68E-D09ED62A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175EE-4F7C-4861-9F79-1D40C993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5B92B-FAF2-4992-90A8-81A8D32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B5CB2-3569-4E37-92CF-6ECB6D0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8285C-E5DE-40A1-BDFD-1B6206C4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9F61A-E6EF-45C0-BD11-BD12005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65C2F-8B9B-4A6E-B283-0642BE9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B2BAB-85B7-4E57-9A8C-62BD20C9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4C626-7472-4E3B-AB5D-A2DEF5FB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B4AAC-062D-4E8C-AE0F-50F71F62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B8BBE-EADF-479A-8563-E7EF6331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3DC06-F840-408F-9FAF-C10945CB9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0B636-E82B-414F-BE00-ACEE9AF8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DBEDE-12F1-4B94-B22E-04335E6B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70E12-E9A7-452E-8476-2CD32EF7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BB7BE-A0BF-4798-95BC-1124A91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C5D9F-5AB9-412A-BD74-22185392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27D16-834D-4F85-A5E0-564C2084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E24B0-2A12-4C7B-B4FB-36493396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AF3D5-E8FC-4FBE-945A-35D1321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63B01-4A5E-46D8-992B-7AACAA35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ACC29-BE17-4653-B632-9DB1661D6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34FF1-23C1-4D63-BCAC-7020B520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16EA2-40E0-4970-BF2A-E470EFBD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D9D8B-AC6A-4A0D-BF68-356D22B1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4ECA7-816B-42F1-BC25-332A5F23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BF7A7-6325-41BA-B2B7-C5466A2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6097C-8E6D-41A5-86DD-0D8C21F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11B7F-CD1D-41B3-BD57-40A0D96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60803-351B-4F14-B412-569FF174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84C01-502C-4CC4-BCB9-A73B997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91861-88AA-4E2A-A9B4-66EE3A5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067E1-3401-4451-8136-40052D81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2ACD-2EF4-4EE2-9C02-892DA98A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CEAF6-F0B5-4B38-8489-CD4167D2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9264-0A80-4150-AC87-DF1C5190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AFD0-CE1F-4852-A6CE-A572754A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1535-A48A-402D-A185-CC590C23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1F4D-3128-4497-A16A-EC79AF41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F6D7-8BC7-43CE-9DA0-0A34E03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9DAA-6D6E-40F7-9746-A5F77CDE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F95-0F2E-495A-953A-364365EA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1D45-71A6-47DC-8375-402AC3FA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82AE-3902-4813-8A0B-94D08015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C2C-2304-4FFD-9364-45F83B05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52AE-88D3-4259-90F1-AC9B5F1E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F148-FEE9-4C86-A5C2-FE18C4CA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8E93-7FEA-43BB-9EBE-5EA1DB36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8203-55CF-4DF1-BC7E-C8C52B86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FBB2-FCF6-4649-A8C0-894ED724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3C8-D480-4D09-9EBD-8352F3AF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2FB-1393-4570-A143-080D1ECE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7F0E9-36ED-48ED-A93F-57D74EDD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73513-E6EC-46F5-AFD4-87B3C8FD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C1543-9E79-4519-A7AE-8E64194A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00C6-3820-4F34-9475-62D648D8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763AC-2D51-4117-A07E-DE296AC1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B64D-7009-450B-90CE-D85F38BA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679F-D23E-4BED-A670-5B93285D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621A-3A18-4E63-83A4-1E5B6E6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229A-05C9-4937-9702-4BD2E285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1A14-2592-429D-862D-A02F3E3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6B498-6C4C-415E-922A-34692B74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183D0-962C-4911-AA72-D1F3DA8F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4F35-42AC-4BAD-8ABB-3D1C983B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B943-76B9-4B4E-8DE1-3F458D90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69400-0E92-4E8B-B11C-2F4AB535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0C36F-3B31-4122-A831-F63D7C7E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A736-6C10-4B7E-8CE3-FEFBDDB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CDB63-4BF3-4476-BD85-5648E4A9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6D76-EA6F-437A-A79D-2FC39683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2F844-55EA-4C70-8DE0-1EC1DCDF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EE2A-56E6-4CE6-AA43-E08BAD2C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D6CB-BDDC-4B0A-86C0-733452D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05F2-34D7-4D6B-A980-3DC3939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B2F08-7475-48FF-BA91-E50F57BF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E90A-C286-49E3-BED9-059AE10A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A79B-ABE8-4965-852D-6AD8F4D8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FA7E0-764F-4A29-8755-F7C39C40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C4F81-AC72-453B-9319-97341AC4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ADD7C-1B68-4367-B87C-4023E3E0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A215-17C8-4DD8-BD95-77975777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C186E-A678-4579-BC6B-E8934D36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4E0-D5CE-48A4-B751-FE3768F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E1DAB-F36D-4EF8-9D24-47904BA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A1C19-2446-4EF2-A1DB-E3501E87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37AE3-C5E6-4E3B-A024-F302A898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4E751-6DCA-41E2-B459-B9056AB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B4E85-9BFA-4E85-85D5-7C7FBB5E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BF3D7-4CF0-40E7-93D4-E672314D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051F3-37C1-46F7-81DE-41F881FD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9E3E4-B244-4D9D-B1E0-A2D5FF00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92542-2ED3-45B8-961E-07DD78D8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3BB2F-3BD8-49CA-946D-915B4BB2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23EA5-D9F7-4594-9453-1722A4FCF28F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EC988-93EB-46DE-AADC-C0F860EF5E07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E6E1B-F5AD-4252-900F-B4AB6ACDBE05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68A37-953C-4B49-B3D9-CC0160740414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33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55F0F-2734-4C18-916C-E024E796BBB8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F2C73-30E2-41F0-AC08-780D393794C6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35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1DA75-3019-4D8E-A338-964B891F8453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B0B09-D766-4DFA-870C-B6E22F1B2DED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8C453-84FE-495C-8EED-D6A1433BF626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04931A-001A-4277-9CC4-C04D5FED768A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custGeom>
            <a:avLst/>
            <a:gdLst/>
            <a:ahLst/>
            <a:rect l="l" t="t" r="r" b="b"/>
            <a:pathLst>
              <a:path w="1535113" h="6400800">
                <a:moveTo>
                  <a:pt x="767557" y="0"/>
                </a:moveTo>
                <a:lnTo>
                  <a:pt x="767557" y="0"/>
                </a:lnTo>
                <a:cubicBezTo>
                  <a:pt x="1191467" y="0"/>
                  <a:pt x="1535114" y="343647"/>
                  <a:pt x="1535114" y="767557"/>
                </a:cubicBezTo>
                <a:cubicBezTo>
                  <a:pt x="1535114" y="2645305"/>
                  <a:pt x="1535113" y="4523052"/>
                  <a:pt x="1535113" y="6400800"/>
                </a:cubicBezTo>
                <a:lnTo>
                  <a:pt x="1535113" y="6400800"/>
                </a:lnTo>
                <a:lnTo>
                  <a:pt x="0" y="6400800"/>
                </a:lnTo>
                <a:lnTo>
                  <a:pt x="0" y="6400800"/>
                </a:lnTo>
                <a:lnTo>
                  <a:pt x="0" y="767557"/>
                </a:lnTo>
                <a:cubicBezTo>
                  <a:pt x="0" y="343647"/>
                  <a:pt x="343647" y="0"/>
                  <a:pt x="767557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A93B92-8BE9-4B00-9914-34C355E39BD4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173FF-F6BC-49C8-99FF-F353810F234D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custGeom>
              <a:avLst/>
              <a:gdLst/>
              <a:ahLst/>
              <a:rect l="l" t="t" r="r" b="b"/>
              <a:pathLst>
                <a:path w="2209695" h="9154402">
                  <a:moveTo>
                    <a:pt x="67397" y="8829966"/>
                  </a:moveTo>
                  <a:lnTo>
                    <a:pt x="0" y="1104848"/>
                  </a:lnTo>
                  <a:cubicBezTo>
                    <a:pt x="0" y="811824"/>
                    <a:pt x="116404" y="530802"/>
                    <a:pt x="323604" y="323603"/>
                  </a:cubicBezTo>
                  <a:cubicBezTo>
                    <a:pt x="530804" y="116404"/>
                    <a:pt x="811826" y="1"/>
                    <a:pt x="1104850" y="2"/>
                  </a:cubicBezTo>
                  <a:lnTo>
                    <a:pt x="1104848" y="0"/>
                  </a:lnTo>
                  <a:lnTo>
                    <a:pt x="1104848" y="0"/>
                  </a:lnTo>
                  <a:cubicBezTo>
                    <a:pt x="1397872" y="0"/>
                    <a:pt x="1678894" y="116404"/>
                    <a:pt x="1886093" y="323604"/>
                  </a:cubicBezTo>
                  <a:cubicBezTo>
                    <a:pt x="2093292" y="530804"/>
                    <a:pt x="2209695" y="811826"/>
                    <a:pt x="2209694" y="1104850"/>
                  </a:cubicBezTo>
                  <a:cubicBezTo>
                    <a:pt x="2209694" y="3788034"/>
                    <a:pt x="2209695" y="6471218"/>
                    <a:pt x="2209695" y="9154402"/>
                  </a:cubicBezTo>
                  <a:lnTo>
                    <a:pt x="2209695" y="9154402"/>
                  </a:lnTo>
                </a:path>
              </a:pathLst>
            </a:cu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custGeom>
              <a:avLst/>
              <a:gdLst/>
              <a:ahLst/>
              <a:rect l="l" t="t" r="r" b="b"/>
              <a:pathLst>
                <a:path w="1040884" h="7134813">
                  <a:moveTo>
                    <a:pt x="0" y="6971904"/>
                  </a:moveTo>
                  <a:lnTo>
                    <a:pt x="0" y="6971904"/>
                  </a:lnTo>
                  <a:lnTo>
                    <a:pt x="0" y="6971904"/>
                  </a:lnTo>
                  <a:lnTo>
                    <a:pt x="0" y="498324"/>
                  </a:lnTo>
                  <a:cubicBezTo>
                    <a:pt x="0" y="366160"/>
                    <a:pt x="52502" y="239410"/>
                    <a:pt x="145956" y="145956"/>
                  </a:cubicBezTo>
                  <a:cubicBezTo>
                    <a:pt x="239410" y="52502"/>
                    <a:pt x="366161" y="1"/>
                    <a:pt x="498325" y="1"/>
                  </a:cubicBezTo>
                  <a:lnTo>
                    <a:pt x="498324" y="0"/>
                  </a:lnTo>
                  <a:lnTo>
                    <a:pt x="498324" y="0"/>
                  </a:lnTo>
                  <a:cubicBezTo>
                    <a:pt x="630488" y="0"/>
                    <a:pt x="757238" y="52502"/>
                    <a:pt x="850692" y="145956"/>
                  </a:cubicBezTo>
                  <a:cubicBezTo>
                    <a:pt x="944146" y="239410"/>
                    <a:pt x="996647" y="366161"/>
                    <a:pt x="996647" y="498325"/>
                  </a:cubicBezTo>
                  <a:cubicBezTo>
                    <a:pt x="1030126" y="1663149"/>
                    <a:pt x="1037566" y="5867764"/>
                    <a:pt x="1040884" y="7134813"/>
                  </a:cubicBezTo>
                </a:path>
              </a:pathLst>
            </a:cu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5534" y="6164375"/>
                  </a:lnTo>
                  <a:cubicBezTo>
                    <a:pt x="3689" y="4261983"/>
                    <a:pt x="1845" y="2359592"/>
                    <a:pt x="0" y="457200"/>
                  </a:cubicBez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0" y="6172200"/>
                  </a:lnTo>
                  <a:lnTo>
                    <a:pt x="0" y="457200"/>
                  </a:ln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custGeom>
              <a:avLst/>
              <a:gdLst/>
              <a:ahLst/>
              <a:rect l="l" t="t" r="r" b="b"/>
              <a:pathLst>
                <a:path w="552099" h="5109912">
                  <a:moveTo>
                    <a:pt x="0" y="5016061"/>
                  </a:moveTo>
                  <a:lnTo>
                    <a:pt x="0" y="5016061"/>
                  </a:lnTo>
                  <a:lnTo>
                    <a:pt x="0" y="251460"/>
                  </a:ln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36054" y="5039297"/>
                    <a:pt x="552099" y="5109912"/>
                  </a:cubicBezTo>
                </a:path>
              </a:pathLst>
            </a:cu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custGeom>
              <a:avLst/>
              <a:gdLst/>
              <a:ahLst/>
              <a:rect l="l" t="t" r="r" b="b"/>
              <a:pathLst>
                <a:path w="536285" h="2938929">
                  <a:moveTo>
                    <a:pt x="6777" y="2849391"/>
                  </a:moveTo>
                  <a:cubicBezTo>
                    <a:pt x="6668" y="1978928"/>
                    <a:pt x="109" y="1121923"/>
                    <a:pt x="0" y="251460"/>
                  </a:cubicBez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17682" y="905440"/>
                    <a:pt x="536285" y="2938929"/>
                  </a:cubicBezTo>
                </a:path>
              </a:pathLst>
            </a:custGeom>
            <a:solidFill>
              <a:srgbClr val="073779"/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custGeom>
            <a:avLst/>
            <a:gdLst/>
            <a:ahLst/>
            <a:rect l="l" t="t" r="r" b="b"/>
            <a:pathLst>
              <a:path w="981537" h="6338829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89058" y="4544471"/>
                  <a:pt x="981537" y="6338829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29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61CE7-1329-4101-AFA5-F55AA7F77B61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0DAA4C-A6F5-4CF3-9AAE-827201FB0A79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custGeom>
            <a:avLst/>
            <a:gdLst/>
            <a:ahLst/>
            <a:rect l="l" t="t" r="r" b="b"/>
            <a:pathLst>
              <a:path w="1040884" h="7134813">
                <a:moveTo>
                  <a:pt x="0" y="6971904"/>
                </a:moveTo>
                <a:lnTo>
                  <a:pt x="0" y="6971904"/>
                </a:lnTo>
                <a:lnTo>
                  <a:pt x="0" y="6971904"/>
                </a:lnTo>
                <a:lnTo>
                  <a:pt x="0" y="498324"/>
                </a:lnTo>
                <a:cubicBezTo>
                  <a:pt x="0" y="366160"/>
                  <a:pt x="52502" y="239410"/>
                  <a:pt x="145956" y="145956"/>
                </a:cubicBezTo>
                <a:cubicBezTo>
                  <a:pt x="239410" y="52502"/>
                  <a:pt x="366161" y="1"/>
                  <a:pt x="498325" y="1"/>
                </a:cubicBezTo>
                <a:lnTo>
                  <a:pt x="498324" y="0"/>
                </a:lnTo>
                <a:lnTo>
                  <a:pt x="498324" y="0"/>
                </a:lnTo>
                <a:cubicBezTo>
                  <a:pt x="630488" y="0"/>
                  <a:pt x="757238" y="52502"/>
                  <a:pt x="850692" y="145956"/>
                </a:cubicBezTo>
                <a:cubicBezTo>
                  <a:pt x="944146" y="239410"/>
                  <a:pt x="996647" y="366161"/>
                  <a:pt x="996647" y="498325"/>
                </a:cubicBezTo>
                <a:cubicBezTo>
                  <a:pt x="1030126" y="1663149"/>
                  <a:pt x="1037566" y="5867764"/>
                  <a:pt x="1040884" y="7134813"/>
                </a:cubicBezTo>
              </a:path>
            </a:pathLst>
          </a:cu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26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70836" y="8848823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custGeom>
            <a:avLst/>
            <a:gdLst/>
            <a:ahLst/>
            <a:rect l="l" t="t" r="r" b="b"/>
            <a:pathLst>
              <a:path w="552099" h="5109912">
                <a:moveTo>
                  <a:pt x="0" y="5016061"/>
                </a:moveTo>
                <a:lnTo>
                  <a:pt x="0" y="5016061"/>
                </a:lnTo>
                <a:lnTo>
                  <a:pt x="0" y="251460"/>
                </a:ln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36054" y="5039297"/>
                  <a:pt x="552099" y="5109912"/>
                </a:cubicBezTo>
              </a:path>
            </a:pathLst>
          </a:cu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custGeom>
            <a:avLst/>
            <a:gdLst/>
            <a:ahLst/>
            <a:rect l="l" t="t" r="r" b="b"/>
            <a:pathLst>
              <a:path w="528237" h="2951509">
                <a:moveTo>
                  <a:pt x="328" y="2862849"/>
                </a:moveTo>
                <a:cubicBezTo>
                  <a:pt x="219" y="1992386"/>
                  <a:pt x="109" y="1121923"/>
                  <a:pt x="0" y="251460"/>
                </a:cubicBez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05702" y="918020"/>
                  <a:pt x="524305" y="2951509"/>
                </a:cubicBezTo>
              </a:path>
            </a:pathLst>
          </a:custGeom>
          <a:solidFill>
            <a:srgbClr val="073779"/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2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" name="Group 30"/>
            <p:cNvGrpSpPr/>
            <p:nvPr/>
          </p:nvGrpSpPr>
          <p:grpSpPr>
            <a:xfrm>
              <a:off x="2741400" y="-932040"/>
              <a:ext cx="2014560" cy="1892160"/>
              <a:chOff x="2741400" y="-932040"/>
              <a:chExt cx="2014560" cy="189216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560" y="-834840"/>
                <a:ext cx="1452240" cy="1671840"/>
              </a:xfrm>
              <a:custGeom>
                <a:avLst/>
                <a:gdLst/>
                <a:ahLst/>
                <a:rect l="l" t="t" r="r" b="b"/>
                <a:pathLst>
                  <a:path stroke="0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  <a:lnTo>
                      <a:pt x="726430" y="835541"/>
                    </a:lnTo>
                    <a:lnTo>
                      <a:pt x="485387" y="47339"/>
                    </a:lnTo>
                    <a:close/>
                  </a:path>
                  <a:path fill="none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7680" y="317520"/>
                <a:ext cx="757440" cy="64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1080" y="15696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9"/>
            <p:cNvGrpSpPr/>
            <p:nvPr/>
          </p:nvGrpSpPr>
          <p:grpSpPr>
            <a:xfrm>
              <a:off x="3217680" y="-1206000"/>
              <a:ext cx="4192560" cy="2355840"/>
              <a:chOff x="3217680" y="-1206000"/>
              <a:chExt cx="419256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8320" y="-776160"/>
                <a:ext cx="3198240" cy="152100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5760" y="13032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160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732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837BA-31A4-457E-AA56-C2875F25753B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D26B7F-D758-482D-BA87-7BFA5B7677A7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7CB23-C7EE-40DB-8861-57156FFEB65F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842E4-1042-40CA-B042-A39585C6E8C8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DD997-30A6-4D4C-8B7E-4B4582E19695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2F0E5-D446-4831-8F39-26A22F48A06D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491AD-B480-411C-8179-CE9763A59762}" type="datetime">
              <a:rPr b="0" lang="en-US" sz="1000" spc="-1" strike="noStrike">
                <a:solidFill>
                  <a:srgbClr val="ffffff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 Rounded MT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F1F97-12EA-4D37-AE24-BCA4FA36BABA}" type="slidenum"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510920" y="280836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Literary Term: Allus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550960" y="4705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aylor Swift “Love Song” Allusion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at you were Romeo,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      you were throwing pebbl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d my daddy said stay away from Julie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d I was crying on the staircas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Begging you please don't go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Explanat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Romeo was a character in Shakespeare’s play, </a:t>
            </a: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Romeo and Juliet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, and was very romantic in expressing his love for Juliet. 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 Exampl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'Christy didn't like to spend money. She was no Scrooge, but she seldom purchased anything except the bare necessities'.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Explanation 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is is a popular allusion to Scrooge, the famous penny-pinching character of Charles Dickens' classic </a:t>
            </a:r>
            <a:r>
              <a:rPr b="0" i="1" lang="en-US" sz="3600" spc="-1" strike="noStrike">
                <a:solidFill>
                  <a:srgbClr val="ffffff"/>
                </a:solidFill>
                <a:latin typeface="Arial Rounded MT Bold"/>
              </a:rPr>
              <a:t>A Christmas Carol.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712800" y="1261800"/>
            <a:ext cx="77169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Find the Allus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609120" y="2895480"/>
            <a:ext cx="7820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e day was young and I was looking forward to the afternoon. I was supposed to go out on a date, but my plans were changed. All my siblings were gone, but I had been in the house slaving like Cinderella, scrubbing the floors on my hands and knees, washing clothes and dishes and making everyone's beds.”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12800" y="4800600"/>
            <a:ext cx="7716960" cy="111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 Rounded MT Bold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51" name="Picture 8" descr="450px-Blue_question_mark.svg-1.png"/>
          <p:cNvPicPr/>
          <p:nvPr/>
        </p:nvPicPr>
        <p:blipFill>
          <a:blip r:embed="rId1"/>
          <a:stretch/>
        </p:blipFill>
        <p:spPr>
          <a:xfrm rot="336600">
            <a:off x="898560" y="1317240"/>
            <a:ext cx="1871640" cy="187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9" descr="450px-Blue_question_mark.svg-1.png"/>
          <p:cNvPicPr/>
          <p:nvPr/>
        </p:nvPicPr>
        <p:blipFill>
          <a:blip r:embed="rId2"/>
          <a:stretch/>
        </p:blipFill>
        <p:spPr>
          <a:xfrm rot="1632000">
            <a:off x="7094160" y="236160"/>
            <a:ext cx="1360440" cy="1360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0" descr="450px-Blue_question_mark.svg-1.png"/>
          <p:cNvPicPr/>
          <p:nvPr/>
        </p:nvPicPr>
        <p:blipFill>
          <a:blip r:embed="rId3"/>
          <a:stretch/>
        </p:blipFill>
        <p:spPr>
          <a:xfrm>
            <a:off x="4025880" y="914400"/>
            <a:ext cx="2832120" cy="28321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1" descr="450px-Blue_question_mark.svg-1.png"/>
          <p:cNvPicPr/>
          <p:nvPr/>
        </p:nvPicPr>
        <p:blipFill>
          <a:blip r:embed="rId4"/>
          <a:stretch/>
        </p:blipFill>
        <p:spPr>
          <a:xfrm rot="20978400">
            <a:off x="3009600" y="2730600"/>
            <a:ext cx="1015920" cy="1015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2" descr="450px-Blue_question_mark.svg-1.png"/>
          <p:cNvPicPr/>
          <p:nvPr/>
        </p:nvPicPr>
        <p:blipFill>
          <a:blip r:embed="rId5"/>
          <a:stretch/>
        </p:blipFill>
        <p:spPr>
          <a:xfrm rot="972600">
            <a:off x="7910280" y="263052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3" descr="450px-Blue_question_mark.svg-1.png"/>
          <p:cNvPicPr/>
          <p:nvPr/>
        </p:nvPicPr>
        <p:blipFill>
          <a:blip r:embed="rId6"/>
          <a:stretch/>
        </p:blipFill>
        <p:spPr>
          <a:xfrm>
            <a:off x="244440" y="214164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/>
          </p:nvPr>
        </p:nvSpPr>
        <p:spPr>
          <a:xfrm>
            <a:off x="712800" y="5105160"/>
            <a:ext cx="7718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712800" y="4404240"/>
            <a:ext cx="77169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Definition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 allusion is a reference to an artifact, be it a person, place, thing, event, or quote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t must be a well known and identified by a large group of people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t is often a proper noun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 Definition….cont’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12800" y="2935440"/>
            <a:ext cx="7716960" cy="33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s reference is probably explicit, but its meaning can be understood only if the person, place, or event is well known by all or known by the reader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 allusion can help the reader develop their understanding of the theme of the book, or bring up a new theme based on that small referenc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Purpos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122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We, as readers, need to know what allusions are so we can identify them in our reading. 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122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We need to be able to recognize allusions in the books we read because they are usually important in our overall understanding of the book. 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Purpose.....cont’  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 Rounded MT Bold"/>
              </a:rPr>
              <a:t>For example, if the name of a character was an allusion to a different  character in another literary work, that similarity could reveal something about the character that we wouldn’t have known if we hadn’t found the allusion. </a:t>
            </a:r>
            <a:endParaRPr b="0" lang="en-US" sz="31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s also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ncrease the audience’s bond with the author, as the author and the audience become/are part of a select group who understand the allusion.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s 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mmonly Made to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Bibl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ursery rhym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yth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amous fictional or historical characters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teratur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s Have the Following Effects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y stir up feelings in the reader by just taking up a minimal amount of spac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 other words, they do the work so the author doesn’t have to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y train the audience--the audience must figure out and understand the original sourc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llusion Exampl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 was surprised his nose was not growing like Pinocchio’s.” 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is refers to the story of Pinocchio, where his nose grew whenever he told a lie.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3:53:21Z</dcterms:created>
  <dc:creator>Kevin Jeffery</dc:creator>
  <dc:description/>
  <dc:language>en-US</dc:language>
  <cp:lastModifiedBy> </cp:lastModifiedBy>
  <cp:lastPrinted>2012-09-14T16:22:27Z</cp:lastPrinted>
  <dcterms:modified xsi:type="dcterms:W3CDTF">2012-09-14T16:22:37Z</dcterms:modified>
  <cp:revision>19</cp:revision>
  <dc:subject/>
  <dc:title>Literary Term: Allusion</dc:title>
</cp:coreProperties>
</file>